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7E7-9B03-4106-9961-2D3E669D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64D-EF74-4C45-BA07-ADA376D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D5F-C9D6-4F2C-BE21-6BDE3B50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F7A-1531-4AA2-9D45-031092BA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A05-A744-44A8-B598-7F273821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B55-2548-41C5-99E4-FBAE62B3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4E7-DCFD-4414-B5C7-BDD2C51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FE9-3F44-43BE-AFED-360FC623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4F9-3813-4737-9554-EB245985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F05-8D9F-4836-A840-340BC81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FB4-0722-4A82-9BA7-DEEEDF7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007-63A6-4C3A-A559-3B4063A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D2D-C76A-4903-BE7D-487517732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www.soundout.org/images/ladder2006.gif"/>
          <p:cNvPicPr/>
          <p:nvPr/>
        </p:nvPicPr>
        <p:blipFill>
          <a:blip r:embed="rId1"/>
          <a:stretch/>
        </p:blipFill>
        <p:spPr>
          <a:xfrm>
            <a:off x="228600" y="380880"/>
            <a:ext cx="633096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4:45:40Z</dcterms:created>
  <dc:creator>109ganskes</dc:creator>
  <dc:description/>
  <dc:language>en-US</dc:language>
  <cp:lastModifiedBy>109ganskes</cp:lastModifiedBy>
  <dcterms:modified xsi:type="dcterms:W3CDTF">2010-06-02T19:09:49Z</dcterms:modified>
  <cp:revision>1</cp:revision>
  <dc:subject/>
  <dc:title>Slide 1</dc:title>
</cp:coreProperties>
</file>